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4EB-C28C-4AB9-859D-920AF44E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929-9407-408B-B383-9498615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C57-F1DB-4E50-9778-9C378931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53A-E507-4622-9DC2-717B3367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06D-BAC2-48C7-952F-3FD1301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50D-B8B2-43C8-A91F-C6DEC3D8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D77-48BF-4CEC-9488-7A8EDE86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317-8683-4D31-84BF-4792F826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209-4A15-42FA-9E6B-A92105D6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5B7-D3A2-46CD-B9B4-613E139E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3A1-8C48-4FD7-903D-2DF7C804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D3C-0F5A-4B99-93A6-61A53E8B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9FCD-7003-48C5-A1FA-33B3D76AD96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476280"/>
            <a:ext cx="187164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404640"/>
            <a:ext cx="216072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in un al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83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788000" y="90792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1125360"/>
            <a:ext cx="1224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476280"/>
            <a:ext cx="18716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 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10817400">
            <a:off x="6084000" y="1124640"/>
            <a:ext cx="2232360" cy="100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 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 (esem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112536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1700280"/>
            <a:ext cx="3024000" cy="1297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 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nieri a vivere e cer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285264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3141720"/>
            <a:ext cx="1297080" cy="1511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587640" y="472428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4581360"/>
            <a:ext cx="505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6360" y="5516640"/>
            <a:ext cx="143964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5445000"/>
            <a:ext cx="158436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1773360"/>
            <a:ext cx="259236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vere 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4076640"/>
            <a:ext cx="2592360" cy="151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nti in mo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e,anche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 di una volta,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anche o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71640" y="393336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645000"/>
            <a:ext cx="165564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484360" y="4221000"/>
            <a:ext cx="172728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021360"/>
            <a:ext cx="151272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80000" y="4292640"/>
            <a:ext cx="57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5516640"/>
            <a:ext cx="86364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858920" y="4292640"/>
            <a:ext cx="14436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6308640"/>
            <a:ext cx="144144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1:15Z</dcterms:created>
  <dc:creator>studente</dc:creator>
  <dc:description/>
  <dc:language>en-US</dc:language>
  <cp:lastModifiedBy>studente</cp:lastModifiedBy>
  <dcterms:modified xsi:type="dcterms:W3CDTF">2016-12-05T10:37:29Z</dcterms:modified>
  <cp:revision>2</cp:revision>
  <dc:subject/>
  <dc:title>Diapositiva 1</dc:title>
</cp:coreProperties>
</file>